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push.wav" ContentType="audio/x-wav"/>
  <Override PartName="/ppt/media/image2.wmf" ContentType="image/x-wmf"/>
  <Override PartName="/ppt/media/image3.wmf" ContentType="image/x-wmf"/>
  <Override PartName="/ppt/media/explode.wav" ContentType="audio/x-wav"/>
  <Override PartName="/ppt/media/wind.wav" ContentType="audio/x-wav"/>
  <Override PartName="/ppt/media/chimes.wav" ContentType="audio/x-wav"/>
  <Override PartName="/ppt/media/hammer.wav" ContentType="audio/x-wav"/>
  <Override PartName="/ppt/media/cashreg.wav" ContentType="audio/x-wav"/>
  <Override PartName="/ppt/media/image8.wmf" ContentType="image/x-wmf"/>
  <Override PartName="/ppt/media/drumroll.wav" ContentType="audio/x-wav"/>
  <Override PartName="/ppt/media/arrow.wav" ContentType="audio/x-wav"/>
  <Override PartName="/ppt/media/image9.wmf" ContentType="image/x-wmf"/>
  <Override PartName="/ppt/media/image7.wmf" ContentType="image/x-wmf"/>
  <Override PartName="/ppt/media/suction.wav" ContentType="audio/x-wav"/>
  <Override PartName="/ppt/media/image6.wmf" ContentType="image/x-wmf"/>
  <Override PartName="/ppt/media/whoosh.wav" ContentType="audio/x-wav"/>
  <Override PartName="/ppt/media/image1.wmf" ContentType="image/x-wmf"/>
  <Override PartName="/ppt/media/click.wav" ContentType="audio/x-wav"/>
  <Override PartName="/ppt/media/image4.wmf" ContentType="image/x-wmf"/>
  <Override PartName="/ppt/media/applause.wav" ContentType="audio/x-wav"/>
  <Override PartName="/ppt/media/image5.wmf" ContentType="image/x-wmf"/>
  <Override PartName="/ppt/media/laser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8FF5-3215-43CC-B4F7-4FCAF288D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08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640" y="3683880"/>
            <a:ext cx="7408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3F0-549D-4247-BDD3-CEA0FC2A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6820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640" y="368388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68200" y="368388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903F-BA8E-4DC4-BA7A-A7DE69FD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476520" y="177336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81760" y="177336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640" y="368388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476520" y="368388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81760" y="368388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52C-42F9-4A94-B499-3C619A17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E3E7-3847-4954-A740-86CBDC1B7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971640" y="1773360"/>
            <a:ext cx="7408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9334-B85C-482D-8F2B-A76160B2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0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CEC6-1436-4200-B61F-4A5192C7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1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68200" y="1773360"/>
            <a:ext cx="361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4AE5D-936D-4779-AD43-8D025D0E1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42ED-76D0-4F98-B8A3-81A525917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476000" y="620640"/>
            <a:ext cx="60800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A50E-0B58-4F00-A5D5-CAA9D5B53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768200" y="1773360"/>
            <a:ext cx="361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71640" y="368388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B9B7-17AD-4414-879D-F91A932E3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640" y="1773360"/>
            <a:ext cx="7408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23C-C95D-48A5-9E35-DA67F02E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1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6820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768200" y="368388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1FF9-1B22-417E-B45D-8457B114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76820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71640" y="3683880"/>
            <a:ext cx="7408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D190-8543-465F-B562-22C79B6A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08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971640" y="3683880"/>
            <a:ext cx="7408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4A2F7-F4BA-4231-BE86-8FC4E77C6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820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971640" y="368388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768200" y="368388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2AAD-3F17-4CA1-8015-9F219627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476520" y="177336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981760" y="177336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971640" y="368388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476520" y="368388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5981760" y="3683880"/>
            <a:ext cx="2385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132F-AD41-4C73-B012-99282E77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0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6AD6-D698-4E64-97F3-6878DDA0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1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68200" y="1773360"/>
            <a:ext cx="361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D46F-FEBF-490E-9340-4ADF7C704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C635-A2EA-4FA8-853B-84B35C3B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76000" y="620640"/>
            <a:ext cx="6080040" cy="52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B487-2169-49DC-B940-7E7E949B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68200" y="1773360"/>
            <a:ext cx="361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640" y="368388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4AF9-C801-426E-A4D5-6F061BE2F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154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6820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68200" y="368388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D42E-54C9-49BD-BF65-C8B7F010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1773360"/>
            <a:ext cx="36154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640" y="3683880"/>
            <a:ext cx="7408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AEB4-3D09-40FB-AAEC-FC4DA196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1773360"/>
            <a:ext cx="740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8FC2E-7CD8-4910-9C64-3245B7CF8E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424240" y="6067440"/>
            <a:ext cx="5171760" cy="385920"/>
            <a:chOff x="2424240" y="6067440"/>
            <a:chExt cx="5171760" cy="385920"/>
          </a:xfrm>
        </p:grpSpPr>
        <p:sp>
          <p:nvSpPr>
            <p:cNvPr id="6" name=""/>
            <p:cNvSpPr/>
            <p:nvPr/>
          </p:nvSpPr>
          <p:spPr>
            <a:xfrm flipH="1" rot="16200000">
              <a:off x="6073560" y="4930920"/>
              <a:ext cx="325440" cy="27194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16200000">
              <a:off x="3817440" y="4674240"/>
              <a:ext cx="325440" cy="311184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7931160" y="2216160"/>
            <a:ext cx="385920" cy="4308480"/>
            <a:chOff x="7931160" y="2216160"/>
            <a:chExt cx="385920" cy="4308480"/>
          </a:xfrm>
        </p:grpSpPr>
        <p:sp>
          <p:nvSpPr>
            <p:cNvPr id="9" name=""/>
            <p:cNvSpPr/>
            <p:nvPr/>
          </p:nvSpPr>
          <p:spPr>
            <a:xfrm flipH="1" rot="10800000">
              <a:off x="7991640" y="221616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10800000">
              <a:off x="7931160" y="39322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730080" y="344520"/>
            <a:ext cx="385920" cy="4308480"/>
            <a:chOff x="730080" y="344520"/>
            <a:chExt cx="385920" cy="4308480"/>
          </a:xfrm>
        </p:grpSpPr>
        <p:sp>
          <p:nvSpPr>
            <p:cNvPr id="12" name=""/>
            <p:cNvSpPr/>
            <p:nvPr/>
          </p:nvSpPr>
          <p:spPr>
            <a:xfrm flipH="1" rot="10800000">
              <a:off x="790200" y="34452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rot="10800000">
              <a:off x="729720" y="206064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3534-C26A-478F-8390-1182221C97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56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60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66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70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audio" Target="../media/cashreg.wav"/><Relationship Id="rId4" Type="http://schemas.openxmlformats.org/officeDocument/2006/relationships/audio" Target="../media/hammer.wav"/><Relationship Id="rId5" Type="http://schemas.openxmlformats.org/officeDocument/2006/relationships/audio" Target="../media/wind.wav"/><Relationship Id="rId6" Type="http://schemas.openxmlformats.org/officeDocument/2006/relationships/audio" Target="../media/laser.wav"/><Relationship Id="rId7" Type="http://schemas.openxmlformats.org/officeDocument/2006/relationships/audio" Target="../media/explode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audio" Target="../media/push.wav"/><Relationship Id="rId4" Type="http://schemas.openxmlformats.org/officeDocument/2006/relationships/audio" Target="../media/suction.wav"/><Relationship Id="rId5" Type="http://schemas.openxmlformats.org/officeDocument/2006/relationships/audio" Target="../media/chimes.wav"/><Relationship Id="rId6" Type="http://schemas.openxmlformats.org/officeDocument/2006/relationships/audio" Target="../media/arrow.wav"/><Relationship Id="rId7" Type="http://schemas.openxmlformats.org/officeDocument/2006/relationships/audio" Target="../media/laser.wav"/><Relationship Id="rId8" Type="http://schemas.openxmlformats.org/officeDocument/2006/relationships/audio" Target="../media/chimes.wav"/><Relationship Id="rId9" Type="http://schemas.openxmlformats.org/officeDocument/2006/relationships/audio" Target="../media/explode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audio" Target="../media/hamm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hammer.wav"/><Relationship Id="rId7" Type="http://schemas.openxmlformats.org/officeDocument/2006/relationships/audio" Target="../media/click.wav"/><Relationship Id="rId8" Type="http://schemas.openxmlformats.org/officeDocument/2006/relationships/audio" Target="../media/whoosh.wav"/><Relationship Id="rId9" Type="http://schemas.openxmlformats.org/officeDocument/2006/relationships/audio" Target="../media/wind.wav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wind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arrow.wav"/><Relationship Id="rId4" Type="http://schemas.openxmlformats.org/officeDocument/2006/relationships/audio" Target="../media/suction.wav"/><Relationship Id="rId5" Type="http://schemas.openxmlformats.org/officeDocument/2006/relationships/audio" Target="../media/wind.wav"/><Relationship Id="rId6" Type="http://schemas.openxmlformats.org/officeDocument/2006/relationships/audio" Target="../media/arrow.wav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explode.wav"/><Relationship Id="rId3" Type="http://schemas.openxmlformats.org/officeDocument/2006/relationships/audio" Target="../media/hammer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arrow.wav"/><Relationship Id="rId10" Type="http://schemas.openxmlformats.org/officeDocument/2006/relationships/audio" Target="../media/arrow.wav"/><Relationship Id="rId1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audio" Target="../media/drumroll.wav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sual"/>
              </a:rPr>
              <a:t>Iniziativa Annuale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03dff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Comic Sans MS"/>
              </a:rPr>
              <a:t>Ingredienti per una proposta formativa valida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"/>
          <p:cNvSpPr/>
          <p:nvPr/>
        </p:nvSpPr>
        <p:spPr>
          <a:xfrm>
            <a:off x="4500720" y="260280"/>
            <a:ext cx="44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Ravie"/>
              </a:rPr>
              <a:t>Azione Cattolica dei Ragazz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503856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Ravie"/>
              </a:rPr>
              <a:t>Che cos’è?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1619280" y="1125360"/>
            <a:ext cx="5329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’Iniziativa Annuale è un progetto educativo a misura dei ragazzi ch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i rende </a:t>
            </a:r>
            <a:r>
              <a:rPr b="0" lang="en-US" sz="2200" spc="-1" strike="noStrike">
                <a:solidFill>
                  <a:srgbClr val="00b200"/>
                </a:solidFill>
                <a:latin typeface="Comic Sans MS"/>
              </a:rPr>
              <a:t>coscienti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del loro essere veri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testimoni di Cristo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                </a:t>
            </a:r>
            <a:r>
              <a:rPr b="0" lang="en-US" sz="2200" spc="-1" strike="noStrike">
                <a:solidFill>
                  <a:srgbClr val="ffb800"/>
                </a:solidFill>
                <a:latin typeface="Comic Sans MS"/>
              </a:rPr>
              <a:t>tra i Coetane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condividendo la </a:t>
            </a:r>
            <a:r>
              <a:rPr b="0" lang="en-US" sz="2200" spc="-1" strike="noStrike">
                <a:solidFill>
                  <a:srgbClr val="703dff"/>
                </a:solidFill>
                <a:latin typeface="Comic Sans MS"/>
              </a:rPr>
              <a:t>missionarietà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della </a:t>
            </a:r>
            <a:r>
              <a:rPr b="0" lang="en-US" sz="2200" spc="-1" strike="noStrike">
                <a:solidFill>
                  <a:srgbClr val="00b200"/>
                </a:solidFill>
                <a:latin typeface="Comic Sans MS"/>
              </a:rPr>
              <a:t>Chies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75"/>
              </a:spcBef>
              <a:buClr>
                <a:srgbClr val="ffffff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secondo lo </a:t>
            </a:r>
            <a:r>
              <a:rPr b="0" lang="en-US" sz="2200" spc="-1" strike="noStrike">
                <a:solidFill>
                  <a:srgbClr val="ffb800"/>
                </a:solidFill>
                <a:latin typeface="Comic Sans MS"/>
              </a:rPr>
              <a:t>stile dell’Azione Cattolica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L’Iniziativa Annuale offre inoltre al ragazzo la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possibilità di crescere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 nella </a:t>
            </a:r>
            <a:r>
              <a:rPr b="0" lang="en-US" sz="2200" spc="-1" strike="noStrike">
                <a:solidFill>
                  <a:srgbClr val="703dff"/>
                </a:solidFill>
                <a:latin typeface="Comic Sans MS"/>
              </a:rPr>
              <a:t>capacità di Servizio</a:t>
            </a: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194600" y="0"/>
            <a:ext cx="1928880" cy="21337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08000" y="5084640"/>
            <a:ext cx="2089080" cy="165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1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explode.wav"/>
                                        </p:tgtEl>
                                      </p:cMediaNode>
                                    </p:audio>
                                    <p:animMotion origin="layout" path="M -0.01424 0.08194 L -0.00625 1.22638 E">
                                      <p:cBhvr>
                                        <p:cTn id="69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323120" y="0"/>
            <a:ext cx="1928880" cy="2133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258920" y="333360"/>
            <a:ext cx="58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Ravie"/>
              </a:rPr>
              <a:t>Le Caratterist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87280" y="1052640"/>
            <a:ext cx="316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47640" y="1125360"/>
            <a:ext cx="410400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L’Iniziativa Annua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è Sto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è Annu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rea Rappor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780000" y="1773360"/>
            <a:ext cx="3528720" cy="1098360"/>
          </a:xfrm>
          <a:prstGeom prst="rect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si </a:t>
            </a:r>
            <a:r>
              <a:rPr b="1" lang="en-US" sz="1600" spc="-1" strike="noStrike">
                <a:solidFill>
                  <a:srgbClr val="ffb800"/>
                </a:solidFill>
                <a:latin typeface="Comic Sans MS"/>
              </a:rPr>
              <a:t>nutre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della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storia concreta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, del vissuto del Gruppo, dell’Associazione,della Chiesa,  del mon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80000" y="2997360"/>
            <a:ext cx="3528720" cy="1225440"/>
          </a:xfrm>
          <a:prstGeom prst="rect">
            <a:avLst/>
          </a:prstGeom>
          <a:solidFill>
            <a:srgbClr val="00b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erché ogni anno ne viene proposta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Perché si sviluppa </a:t>
            </a:r>
            <a:r>
              <a:rPr b="1" lang="en-US" sz="1600" spc="-1" strike="noStrike">
                <a:solidFill>
                  <a:srgbClr val="ffb800"/>
                </a:solidFill>
                <a:latin typeface="Comic Sans MS"/>
              </a:rPr>
              <a:t>in un anno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in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tappe strettamente leg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4797360"/>
            <a:ext cx="3528720" cy="1194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L’apertura agli altri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come </a:t>
            </a:r>
            <a:r>
              <a:rPr b="1" lang="en-US" sz="1600" spc="-1" strike="noStrike">
                <a:solidFill>
                  <a:srgbClr val="ffb800"/>
                </a:solidFill>
                <a:latin typeface="Comic Sans MS"/>
              </a:rPr>
              <a:t>strumento per annunciare Ges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La </a:t>
            </a: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logica del primo passo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nell’incont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4435560"/>
            <a:ext cx="2411280" cy="2422440"/>
          </a:xfrm>
          <a:prstGeom prst="rect">
            <a:avLst/>
          </a:prstGeom>
          <a:ln w="0">
            <a:noFill/>
          </a:ln>
        </p:spPr>
      </p:pic>
    </p:spTree>
  </p:cSld>
  <p:transition spd="slow">
    <p:pull dir="u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u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explode.wav"/>
                                        </p:tgtEl>
                                      </p:cMediaNode>
                                    </p:audio>
                                    <p:animMotion origin="layout" path="M -8.33333E-007 2.25434E-006 L 1.16354 0.00208 E">
                                      <p:cBhvr>
                                        <p:cTn id="127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116000" y="1052640"/>
            <a:ext cx="3384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b800"/>
                </a:solidFill>
                <a:latin typeface="Day Of The Tentacle"/>
              </a:rPr>
              <a:t>…</a:t>
            </a:r>
            <a:r>
              <a:rPr b="1" lang="it-IT" sz="3600" spc="-1" strike="noStrike">
                <a:solidFill>
                  <a:srgbClr val="ffb800"/>
                </a:solidFill>
                <a:latin typeface="Day Of The Tentacle"/>
              </a:rPr>
              <a:t>il cammino di fede dell’ACR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a Catechesi Esperenziale propone la Circolarità tra fede e vit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e tappe dell’I.A.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non devono costituire una rottura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con il cammino di catechesi, ma devono essere espressione incisiva dell’</a:t>
            </a:r>
            <a:r>
              <a:rPr b="1" lang="it-IT" sz="2000" spc="-1" strike="noStrike">
                <a:solidFill>
                  <a:srgbClr val="00b200"/>
                </a:solidFill>
                <a:latin typeface="Comic Sans MS"/>
              </a:rPr>
              <a:t>aspetto MISSIONARIO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</a:rPr>
              <a:t>      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di esso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"/>
          <p:cNvSpPr/>
          <p:nvPr/>
        </p:nvSpPr>
        <p:spPr>
          <a:xfrm>
            <a:off x="1332000" y="40464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dff"/>
                </a:solidFill>
                <a:latin typeface="Casual"/>
              </a:rPr>
              <a:t>Iniziativa Annuale 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0" y="1341360"/>
            <a:ext cx="338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b200"/>
                </a:solidFill>
                <a:latin typeface="Comic Sans MS"/>
              </a:rPr>
              <a:t>…</a:t>
            </a:r>
            <a:r>
              <a:rPr b="1" lang="it-IT" sz="3200" spc="-1" strike="noStrike">
                <a:solidFill>
                  <a:srgbClr val="00b200"/>
                </a:solidFill>
                <a:latin typeface="Day Of The Tentacle"/>
              </a:rPr>
              <a:t>l’appartenenza associ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L’Aspetto associativo dell’I.A. si realizza a 2 condizion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 ragazzi devono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iconoscersi appartenenti ad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703dff"/>
                </a:solidFill>
                <a:latin typeface="Comic Sans MS"/>
              </a:rPr>
              <a:t>un’associa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I Ragazzi scoprono la </a:t>
            </a:r>
            <a:r>
              <a:rPr b="0" lang="it-IT" sz="2000" spc="-1" strike="noStrike">
                <a:solidFill>
                  <a:srgbClr val="ffb800"/>
                </a:solidFill>
                <a:latin typeface="Comic Sans MS"/>
              </a:rPr>
              <a:t>dimensione unitaria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b200"/>
                </a:solidFill>
                <a:latin typeface="Comic Sans MS"/>
              </a:rPr>
              <a:t>dell’Associ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7400880" y="44280"/>
            <a:ext cx="1795680" cy="20894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4920" y="4797360"/>
            <a:ext cx="2160720" cy="2027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8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5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Motion origin="layout" path="M 4.72222E-006 3.7037E-006 L 0.00208 1.30717 E">
                                      <p:cBhvr>
                                        <p:cTn id="192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763280" y="1483920"/>
            <a:ext cx="5977080" cy="39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I ragazzi si fanno </a:t>
            </a:r>
            <a:r>
              <a:rPr b="0" lang="en-US" sz="3600" spc="-1" strike="noStrike">
                <a:solidFill>
                  <a:srgbClr val="703dff"/>
                </a:solidFill>
                <a:latin typeface="Comic Sans MS"/>
              </a:rPr>
              <a:t>attenti alla realtà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, si lasciano interpellare dalle domande della gente per </a:t>
            </a:r>
            <a:r>
              <a:rPr b="0" lang="en-US" sz="3600" spc="-1" strike="noStrike">
                <a:solidFill>
                  <a:srgbClr val="ffb800"/>
                </a:solidFill>
                <a:latin typeface="Comic Sans MS"/>
              </a:rPr>
              <a:t>dar voce a chi non ha voce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 scoprendo </a:t>
            </a:r>
            <a:r>
              <a:rPr b="0" lang="en-US" sz="3600" spc="-1" strike="noStrike">
                <a:solidFill>
                  <a:srgbClr val="00b200"/>
                </a:solidFill>
                <a:latin typeface="Comic Sans MS"/>
              </a:rPr>
              <a:t>forme 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sempre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nuove di povertà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"/>
          <p:cNvSpPr/>
          <p:nvPr/>
        </p:nvSpPr>
        <p:spPr>
          <a:xfrm rot="16200000">
            <a:off x="6098040" y="2334600"/>
            <a:ext cx="511344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Ravie"/>
              </a:rPr>
              <a:t>Gli Ingredi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332000" y="403560"/>
            <a:ext cx="417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343080" indent="-343080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b800"/>
                </a:solidFill>
                <a:latin typeface="Casual"/>
              </a:rPr>
              <a:t>Stud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2627280" cy="24397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115640" y="1557000"/>
            <a:ext cx="6985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l momento dell’animazione esprime il </a:t>
            </a:r>
            <a:r>
              <a:rPr b="1" lang="it-IT" sz="2400" spc="-1" strike="noStrike">
                <a:solidFill>
                  <a:srgbClr val="00b200"/>
                </a:solidFill>
                <a:latin typeface="Comic Sans MS"/>
              </a:rPr>
              <a:t>compito dell’A.C. di essere fermento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b800"/>
                </a:solidFill>
                <a:latin typeface="Comic Sans MS"/>
              </a:rPr>
              <a:t>perché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tutta la </a:t>
            </a:r>
            <a:r>
              <a:rPr b="0" lang="it-IT" sz="2400" spc="-1" strike="noStrike">
                <a:solidFill>
                  <a:srgbClr val="ffb800"/>
                </a:solidFill>
                <a:latin typeface="Comic Sans MS"/>
              </a:rPr>
              <a:t>comunità cristiana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diventi</a:t>
            </a:r>
            <a:r>
              <a:rPr b="0" lang="it-IT" sz="2400" spc="-1" strike="noStrike">
                <a:solidFill>
                  <a:srgbClr val="ffb800"/>
                </a:solidFill>
                <a:latin typeface="Comic Sans MS"/>
              </a:rPr>
              <a:t> responsabil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dell’</a:t>
            </a:r>
            <a:r>
              <a:rPr b="0" lang="it-IT" sz="2400" spc="-1" strike="noStrike">
                <a:solidFill>
                  <a:srgbClr val="703dff"/>
                </a:solidFill>
                <a:latin typeface="Comic Sans MS"/>
              </a:rPr>
              <a:t>annuncio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della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buona notizia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L’aver</a:t>
            </a:r>
            <a:r>
              <a:rPr b="0" lang="it-IT" sz="2400" spc="-1" strike="noStrike">
                <a:solidFill>
                  <a:srgbClr val="00b200"/>
                </a:solidFill>
                <a:latin typeface="Comic Sans MS"/>
              </a:rPr>
              <a:t> conosciuto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una certa situazione </a:t>
            </a:r>
            <a:r>
              <a:rPr b="0" lang="it-IT" sz="2400" spc="-1" strike="noStrike">
                <a:solidFill>
                  <a:srgbClr val="ffb800"/>
                </a:solidFill>
                <a:latin typeface="Comic Sans MS"/>
              </a:rPr>
              <a:t>sping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 GRUPPI a sensibilizzare la comunità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per </a:t>
            </a:r>
            <a:r>
              <a:rPr b="0" lang="it-IT" sz="2400" spc="-1" strike="noStrike">
                <a:solidFill>
                  <a:srgbClr val="703dff"/>
                </a:solidFill>
                <a:latin typeface="Comic Sans MS"/>
              </a:rPr>
              <a:t>essere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 davvero </a:t>
            </a:r>
            <a:r>
              <a:rPr b="0" lang="it-IT" sz="2400" spc="-1" strike="noStrike">
                <a:solidFill>
                  <a:srgbClr val="703dff"/>
                </a:solidFill>
                <a:latin typeface="Comic Sans MS"/>
              </a:rPr>
              <a:t>“efficaci”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In questa fase la missionarietà intesa come comunicazione dell’amore di Dio si arricchisce della </a:t>
            </a: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risposta dell’uom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6098040" y="2334600"/>
            <a:ext cx="511344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b8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dff"/>
                </a:solidFill>
                <a:latin typeface="Ravie"/>
              </a:rPr>
              <a:t>Gli Ingredi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0" y="403560"/>
            <a:ext cx="5616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343080" indent="-343080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Casual"/>
              </a:rPr>
              <a:t>Animazi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4726080"/>
            <a:ext cx="2481120" cy="2131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animRot by="21600000">
                                      <p:cBhvr>
                                        <p:cTn id="26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403280" y="1341360"/>
            <a:ext cx="6912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La </a:t>
            </a:r>
            <a:r>
              <a:rPr b="0" lang="en-US" sz="2400" spc="-1" strike="noStrike">
                <a:solidFill>
                  <a:srgbClr val="ffb800"/>
                </a:solidFill>
                <a:latin typeface="Comic Sans MS"/>
              </a:rPr>
              <a:t>missionariet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me comunicazione dell’amore di Dio diventa </a:t>
            </a:r>
            <a:r>
              <a:rPr b="1" lang="en-US" sz="2400" spc="-1" strike="noStrike">
                <a:solidFill>
                  <a:srgbClr val="00b200"/>
                </a:solidFill>
                <a:latin typeface="Comic Sans MS"/>
              </a:rPr>
              <a:t>DIALOG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Comic Sans MS"/>
              </a:rPr>
              <a:t>Servir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er il gruppo ACR è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diventar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apaci di dono gratuito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individuar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m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concrete e a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propria misura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di impegno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come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f00882"/>
                </a:solidFill>
                <a:latin typeface="Comic Sans MS"/>
              </a:rPr>
              <a:t>risposte ai bisogni emers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compiere gesti di condivisione e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olidariet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- crescere in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responsabilit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n-US" sz="2400" spc="-1" strike="noStrike">
                <a:solidFill>
                  <a:srgbClr val="00b200"/>
                </a:solidFill>
                <a:latin typeface="Comic Sans MS"/>
              </a:rPr>
              <a:t>competenza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verso gli impegn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assun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6098040" y="2334600"/>
            <a:ext cx="511344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200"/>
                </a:solidFill>
                <a:latin typeface="Ravie"/>
              </a:rPr>
              <a:t>Gli Ingredi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332000" y="403560"/>
            <a:ext cx="403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marL="343080" indent="-343080">
              <a:lnSpc>
                <a:spcPct val="8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703dff"/>
                </a:solidFill>
                <a:latin typeface="Casual"/>
              </a:rPr>
              <a:t>serviz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4869000"/>
            <a:ext cx="2624040" cy="198900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77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8" dur="770" fill="hold"/>
                                        <p:tgtEl>
                                          <p:spTgt spid="1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0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2" dur="77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32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684072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0066"/>
                </a:solidFill>
                <a:latin typeface="Casual"/>
              </a:rPr>
              <a:t> </a:t>
            </a:r>
            <a:r>
              <a:rPr b="0" lang="it-IT" sz="4000" spc="-1" strike="noStrike">
                <a:solidFill>
                  <a:srgbClr val="ffb800"/>
                </a:solidFill>
                <a:latin typeface="Casual"/>
              </a:rPr>
              <a:t>e… i Protagonisti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15640" y="1413000"/>
            <a:ext cx="648036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Nell’I.A. </a:t>
            </a:r>
            <a:r>
              <a:rPr b="1" lang="it-IT" sz="3400" spc="-1" strike="noStrike">
                <a:solidFill>
                  <a:srgbClr val="66ff33"/>
                </a:solidFill>
                <a:latin typeface="Comic Sans MS"/>
              </a:rPr>
              <a:t>il GRUPPO</a:t>
            </a: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 è il </a:t>
            </a:r>
            <a:r>
              <a:rPr b="0" lang="it-IT" sz="3400" spc="-1" strike="noStrike">
                <a:solidFill>
                  <a:srgbClr val="ff0000"/>
                </a:solidFill>
                <a:latin typeface="Comic Sans MS"/>
              </a:rPr>
              <a:t>vero soggetto</a:t>
            </a: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85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Il Gruppo </a:t>
            </a:r>
            <a:r>
              <a:rPr b="0" lang="it-IT" sz="3400" spc="-1" strike="noStrike">
                <a:solidFill>
                  <a:srgbClr val="ffff00"/>
                </a:solidFill>
                <a:latin typeface="Comic Sans MS"/>
              </a:rPr>
              <a:t>NON</a:t>
            </a: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 esaurisce la propria vita all’interno della sede </a:t>
            </a:r>
            <a:r>
              <a:rPr b="0" lang="it-IT" sz="3400" spc="-1" strike="noStrike">
                <a:solidFill>
                  <a:srgbClr val="ffff00"/>
                </a:solidFill>
                <a:latin typeface="Comic Sans MS"/>
              </a:rPr>
              <a:t>MA</a:t>
            </a: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 si </a:t>
            </a:r>
            <a:r>
              <a:rPr b="0" lang="it-IT" sz="3400" spc="-1" strike="noStrike">
                <a:solidFill>
                  <a:srgbClr val="703dff"/>
                </a:solidFill>
                <a:latin typeface="Comic Sans MS"/>
              </a:rPr>
              <a:t>apre all’incontro </a:t>
            </a:r>
            <a:r>
              <a:rPr b="0" lang="it-IT" sz="3400" spc="-1" strike="noStrike">
                <a:solidFill>
                  <a:srgbClr val="ffffff"/>
                </a:solidFill>
                <a:latin typeface="Comic Sans MS"/>
              </a:rPr>
              <a:t>con tutti.</a:t>
            </a:r>
            <a:endParaRPr b="0" lang="en-US" sz="3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6098040" y="2334600"/>
            <a:ext cx="5113440" cy="5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Ravie"/>
              </a:rPr>
              <a:t>I Cuoch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4653000"/>
            <a:ext cx="2484360" cy="2274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u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2.96296E-006 L 1.25417 0.00232 E">
                                      <p:cBhvr>
                                        <p:cTn id="363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76000" y="620640"/>
            <a:ext cx="6080040" cy="11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71640" y="1773360"/>
            <a:ext cx="7408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708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285264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asual"/>
              </a:rPr>
              <a:t>Fin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51280" y="6093000"/>
            <a:ext cx="5292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A cura della Commissione per l’Iniziativa Annu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della diocesi di Ascoli Pice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9T21:30:54Z</dcterms:created>
  <dc:creator>Compaq</dc:creator>
  <dc:description/>
  <dc:language>en-US</dc:language>
  <cp:lastModifiedBy>Compaq</cp:lastModifiedBy>
  <dcterms:modified xsi:type="dcterms:W3CDTF">2003-09-30T12:29:52Z</dcterms:modified>
  <cp:revision>33</cp:revision>
  <dc:subject/>
  <dc:title>Inziativa Annuale</dc:title>
</cp:coreProperties>
</file>