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hammer.wav" ContentType="audio/x-wav"/>
  <Override PartName="/ppt/media/cashreg.wav" ContentType="audio/x-wav"/>
  <Override PartName="/ppt/media/image8.wmf" ContentType="image/x-wmf"/>
  <Override PartName="/ppt/media/image5.wmf" ContentType="image/x-wmf"/>
  <Override PartName="/ppt/media/applause.wav" ContentType="audio/x-wav"/>
  <Override PartName="/ppt/media/explode.wav" ContentType="audio/x-wav"/>
  <Override PartName="/ppt/media/camera.wav" ContentType="audio/x-wav"/>
  <Override PartName="/ppt/media/laser.wav" ContentType="audio/x-wav"/>
  <Override PartName="/ppt/media/image7.wmf" ContentType="image/x-wmf"/>
  <Override PartName="/ppt/media/image6.wmf" ContentType="image/x-wmf"/>
  <Override PartName="/ppt/media/image4.wmf" ContentType="image/x-wmf"/>
  <Override PartName="/ppt/media/click.wav" ContentType="audio/x-wav"/>
  <Override PartName="/ppt/media/type.wav" ContentType="audio/x-wav"/>
  <Override PartName="/ppt/media/image1.png" ContentType="image/png"/>
  <Override PartName="/ppt/media/push.wav" ContentType="audio/x-wav"/>
  <Override PartName="/ppt/media/image2.wmf" ContentType="image/x-wmf"/>
  <Override PartName="/ppt/media/drumroll.wav" ContentType="audio/x-wav"/>
  <Override PartName="/ppt/media/arrow.wav" ContentType="audio/x-wav"/>
  <Override PartName="/ppt/media/chimes.wav" ContentType="audio/x-wav"/>
  <Override PartName="/ppt/media/wind.wav" ContentType="audio/x-wav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1CB-00D7-4F13-98CB-E164E659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0E8-B457-4F15-9D31-24201E4F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0C4-93C9-4CED-9215-F84DA3E1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EC2-2C61-4442-B3D5-CFE44F3F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3D22-8D7C-4613-9471-B4CA7207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BC6-EB58-4B5A-908B-4560441C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10D-F443-425A-81C8-95EC6116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283E-8943-4C92-8072-CCF0513F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226-CBB4-46E6-9B92-49512EEB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45D-B308-4DB5-B640-96E13C3F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3F6-5B8F-42E9-AEC1-A2563FBC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1E6-8100-4EDB-9A33-FD5DC465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2644-53A7-45D5-B217-293AE99BF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audio" Target="../media/arrow.wav"/><Relationship Id="rId5" Type="http://schemas.openxmlformats.org/officeDocument/2006/relationships/audio" Target="../media/hammer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audio" Target="../media/push.wav"/><Relationship Id="rId4" Type="http://schemas.openxmlformats.org/officeDocument/2006/relationships/audio" Target="../media/type.wav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audio" Target="../media/push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audio" Target="../media/laser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924280"/>
            <a:ext cx="6120000" cy="110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sual"/>
              </a:rPr>
              <a:t>Iniziativa annua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64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Brush Script MT"/>
              </a:rPr>
              <a:t>Un po’ di stori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141300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48428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sual"/>
              </a:rPr>
              <a:t>Azione cattolica dei ragaz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96000" y="1844640"/>
            <a:ext cx="201924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446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al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Concilio Vaticano II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incontrare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l’uomo là dove vive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458136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asual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Casual"/>
              </a:rPr>
              <a:t>da</a:t>
            </a:r>
            <a:r>
              <a:rPr b="0" lang="en-US" sz="3200" spc="-1" strike="noStrike">
                <a:solidFill>
                  <a:srgbClr val="00ffff"/>
                </a:solidFill>
                <a:latin typeface="Casual"/>
              </a:rPr>
              <a:t>I docu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91080" y="1268280"/>
            <a:ext cx="2638440" cy="324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84360" y="2492280"/>
            <a:ext cx="719280" cy="505080"/>
          </a:xfrm>
          <a:prstGeom prst="downArrow">
            <a:avLst>
              <a:gd name="adj1" fmla="val 31565"/>
              <a:gd name="adj2" fmla="val 40565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213000"/>
            <a:ext cx="4464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ocumento Base del </a:t>
            </a:r>
            <a:r>
              <a:rPr b="1" lang="en-US" sz="2200" spc="-1" strike="noStrike">
                <a:solidFill>
                  <a:srgbClr val="00ffff"/>
                </a:solidFill>
                <a:latin typeface="Comic Sans MS"/>
              </a:rPr>
              <a:t>Rinnovamento della Catechesi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la spinta verso l’uomo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ha due dimensioni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- missionaria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-evangelizzatr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2952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asual"/>
              </a:rPr>
              <a:t>1970</a:t>
            </a:r>
            <a:r>
              <a:rPr b="1" lang="en-US" sz="2400" spc="-1" strike="noStrike">
                <a:solidFill>
                  <a:srgbClr val="00ffff"/>
                </a:solidFill>
                <a:latin typeface="Casual"/>
              </a:rPr>
              <a:t> 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i testi ACR per gli educatori: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teresse per una vita di fede completa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del ragazzo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134136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1218960"/>
            <a:ext cx="316872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sual"/>
              </a:rPr>
              <a:t>A.A. </a:t>
            </a:r>
            <a:r>
              <a:rPr b="0" lang="it-IT" sz="1600" spc="-1" strike="noStrike">
                <a:solidFill>
                  <a:srgbClr val="ff0000"/>
                </a:solidFill>
                <a:latin typeface="Casual"/>
              </a:rPr>
              <a:t>1975/7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sual"/>
              </a:rPr>
              <a:t>Sette Tap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Comic Sans MS"/>
              </a:rPr>
              <a:t>Settembre- Ottobre: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presentazione dell’I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omic Sans MS"/>
              </a:rPr>
              <a:t>Metà Dicembre- Natale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: preparazione I.A. (mostra, presepio, lettera genitor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Gennaio: Mese Pace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ffff"/>
                </a:solidFill>
                <a:latin typeface="Comic Sans MS"/>
              </a:rPr>
              <a:t>Quaresima: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incontri zonali o vicariali dei grup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Comic Sans MS"/>
              </a:rPr>
              <a:t>Pasqua: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incontro diocesano dei ragazzi col Vesco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omic Sans MS"/>
              </a:rPr>
              <a:t>Pentecoste: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settimana internazionale dei ragazzi del MID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Mostra nazionale dell’A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987640" y="1989000"/>
            <a:ext cx="2470320" cy="345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280" y="4005360"/>
            <a:ext cx="2808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mic Sans MS"/>
              </a:rPr>
              <a:t>L’Iniziativa Annuale è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1) linea di azion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educativo - apostolica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) durata di un anno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3) su un tema o problema 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del mondo dei raga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637000"/>
            <a:ext cx="2808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pazio a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PROTAGONISMO MISSIONARIO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l gruppo e                negli ambienti di v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446544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81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c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 Progetto A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’Iniziativa Annuale si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rticol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app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ese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ese degli Incon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)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state ACR (T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27720" y="1197000"/>
            <a:ext cx="2473200" cy="4319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16200000">
            <a:off x="6053400" y="3101400"/>
            <a:ext cx="439092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sual"/>
              </a:rPr>
              <a:t>Ancora storia </a:t>
            </a:r>
            <a:r>
              <a:rPr b="0" lang="en-US" sz="3200" spc="-1" strike="noStrike">
                <a:solidFill>
                  <a:srgbClr val="ffff00"/>
                </a:solidFill>
                <a:latin typeface="Casu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68360" y="1773360"/>
            <a:ext cx="58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148428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2276640"/>
            <a:ext cx="4679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ducare ad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ndare verso gli altr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estimoniand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iò di cui si fa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perienz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nel grupp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trire nei ragazzi stessi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’esigenza di darsi da far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per la comunit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on le loro ricchezze di ragazz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1413000"/>
            <a:ext cx="7632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asual"/>
              </a:rPr>
              <a:t>Obiettivo dell’Iniziativa Annua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2963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asual"/>
              </a:rPr>
              <a:t>1985-8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uova scansione metodologica in: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Studio,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animazione,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00ffff"/>
                </a:solidFill>
                <a:latin typeface="Comic Sans MS"/>
              </a:rPr>
              <a:t>volontariato.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asual"/>
              </a:rPr>
              <a:t>198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asce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a Storia dell’I.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visa in 4 tapp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finale è la conquista di un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tteggiamento di fed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he diventa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Stile di 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1268280"/>
            <a:ext cx="39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sual"/>
              </a:rPr>
              <a:t>E  po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3242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899640" y="1267920"/>
            <a:ext cx="4681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asual"/>
              </a:rPr>
              <a:t>Fino ad og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1990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sce il </a:t>
            </a:r>
            <a:r>
              <a:rPr b="1" lang="it-IT" sz="1800" spc="-1" strike="noStrike">
                <a:solidFill>
                  <a:srgbClr val="808080"/>
                </a:solidFill>
                <a:latin typeface="Comic Sans MS"/>
              </a:rPr>
              <a:t>Nuovo Progetto ACR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 l’I.A. viene presentata (cap8) 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Esperienza fondamentale del Gruppo A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ff"/>
                </a:solidFill>
                <a:latin typeface="Comic Sans MS"/>
              </a:rPr>
              <a:t>Espressione dell’impegno e dell’esperienza di missionarie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tappa del volontariato viene trasformata in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fase di serviz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2002/3 L’A.A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viene scandito in </a:t>
            </a:r>
            <a:r>
              <a:rPr b="0" lang="it-IT" sz="1800" spc="-1" strike="noStrike">
                <a:solidFill>
                  <a:srgbClr val="00ffff"/>
                </a:solidFill>
                <a:latin typeface="Comic Sans MS"/>
              </a:rPr>
              <a:t>4 f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ritmate 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dall’anno liturg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l’I.A. è meglio collegata dal punto di vista tematico all’itinerario di Cateche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0654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708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85264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sual"/>
              </a:rPr>
              <a:t>Fi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6093000"/>
            <a:ext cx="529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A cura della Commissione per l’Iniziativa Annu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della diocesi di Ascoli Pic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2:47:37Z</dcterms:created>
  <dc:creator>Compaq</dc:creator>
  <dc:description/>
  <dc:language>en-US</dc:language>
  <cp:lastModifiedBy>Compaq</cp:lastModifiedBy>
  <dcterms:modified xsi:type="dcterms:W3CDTF">2003-09-29T17:46:33Z</dcterms:modified>
  <cp:revision>21</cp:revision>
  <dc:subject/>
  <dc:title>Iniziativa annuale </dc:title>
</cp:coreProperties>
</file>