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C5D2A-F2FB-43D2-93D7-693DAFE844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05E5-4191-4AF7-9B43-296BCC4BB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F696-DA98-49AD-B276-5346DAE41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DE55-F4DC-4BF7-83D3-D52599F9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9931-83BE-4284-ADF2-8ABD55309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D783-9987-4205-98C0-449B86FE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F583-AB76-4931-A373-688BAA4BD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F572-8E65-4F4B-A487-DDE49C86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668FE-EEEF-4E7D-8D26-FDA867D4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A07D-198A-4B62-A2C6-780647CC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9CB2-62DD-4379-B804-8055E6397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DF581-710E-46DC-84EB-3748EBC31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50CE-283C-4463-8E13-C14A8FFD7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539640" y="809640"/>
            <a:ext cx="8280360" cy="5572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43200" y="260280"/>
            <a:ext cx="6400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Ecco una donna, una peccatrice di quella città, saputo che si trovava nella casa del fariseo, venne con un vasetto di olio profumato; e fermatasi dietro si rannicchiò piangendo ai piedi di lui e cominciò a bagnarli di lacrime, poi li asciugava con i suoi capelli, li baciava e li cospargeva di olio profumato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405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79280" y="1052640"/>
            <a:ext cx="532944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be0e3"/>
                </a:solidFill>
                <a:latin typeface="Arial"/>
              </a:rPr>
              <a:t>Vedi questa donna? Sono entrato nella tua casa e tu non m’hai dato l’acqua per i piedi; lei invece mi ha bagnato i piedi con le lacrime e li ha asciugati con i suoi capelli. Tu non mi hai dato un bacio, lei invece da quando sono entrato non ha cessato di baciarmi i piedi. Tu non mi hai cosparso il capo di olio profumato, ma lei mi ha cosparso di profumo i pied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0832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0" y="692280"/>
            <a:ext cx="9144000" cy="30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3333cc"/>
                </a:solidFill>
                <a:latin typeface="Arial"/>
              </a:rPr>
              <a:t>Le sono perdonati i suoi molti peccati, poiché ha molto amato. Invece quello a cui si perdona poco, ama poco”. Poi disse a lei: “Ti sono perdonati i tuoi peccati”. Allora i commensali cominciarono a dire tra sé: “Chi è quest’uomo che perdona anche i peccati?”. Ma egli disse alla donna: “La tua fede ti ha salvata; và in pace!”.</a:t>
            </a:r>
            <a:r>
              <a:rPr b="0" i="1" lang="it-IT" sz="2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7T13:05:38Z</dcterms:created>
  <dc:creator>Compaq</dc:creator>
  <dc:description/>
  <dc:language>en-US</dc:language>
  <cp:lastModifiedBy>Compaq</cp:lastModifiedBy>
  <dcterms:modified xsi:type="dcterms:W3CDTF">2004-03-27T13:08:51Z</dcterms:modified>
  <cp:revision>2</cp:revision>
  <dc:subject/>
  <dc:title>Diapositiva 1</dc:title>
</cp:coreProperties>
</file>