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9C5-99E9-4185-A2C2-7D776676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C5D-61C9-4BFA-8B8B-4B323ECD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A83-5809-4F4F-9602-48DC7D4C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68F-C94C-495A-A046-7BF998A6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FC9-2D4D-4FBF-AD29-4681854C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9B5-B80B-404F-9EFB-911440D1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18D-7C29-464F-B5D2-736414E0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EB6-F0E8-4A9C-A88E-5FD299DA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756-E44D-4279-9567-F1786E63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888-B5C8-4BFE-8A9A-912A41D0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A0B-6ED8-467F-AEC8-240F25C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A01-A30A-4D68-96EA-71118138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5728-9F25-4220-9858-4B924C9D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572436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ffff00"/>
                </a:solidFill>
                <a:latin typeface="Berlin Sans FB Demi"/>
              </a:rPr>
              <a:t>Come                   si fa un Camposcuola?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Berlin Sans FB"/>
              </a:rPr>
              <a:t>Presentazione a cura dell’Equipe ACR della                diocesi di Ascoli Pic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0720" y="4005360"/>
            <a:ext cx="3743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Obiettivo Generale (Idea di fo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Gli obiettivi giornali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L’Aggancio con la 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I tracci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Le 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La Litu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66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ff"/>
                </a:solidFill>
                <a:latin typeface="Berlin Sans FB"/>
              </a:rPr>
              <a:t>I Gio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Berlin Sans FB"/>
              </a:rPr>
              <a:t>Obiettivo Gene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Da le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coordinate educative</a:t>
            </a: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 del campo. Definisce sinteticamente cosa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ci proponiamo di vivere</a:t>
            </a: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 nella settimana del camp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Fissa il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punto di partenza</a:t>
            </a: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, l’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itinerario</a:t>
            </a: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 da seguire, </a:t>
            </a:r>
            <a:r>
              <a:rPr b="0" lang="en-US" sz="3200" spc="-1" strike="noStrike">
                <a:solidFill>
                  <a:srgbClr val="ffff00"/>
                </a:solidFill>
                <a:latin typeface="Berlin Sans FB"/>
              </a:rPr>
              <a:t>dove</a:t>
            </a:r>
            <a:r>
              <a:rPr b="0" lang="en-US" sz="3200" spc="-1" strike="noStrike">
                <a:solidFill>
                  <a:srgbClr val="ff6600"/>
                </a:solidFill>
                <a:latin typeface="Berlin Sans FB"/>
              </a:rPr>
              <a:t> “arrivare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4005360"/>
            <a:ext cx="3419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ff"/>
                </a:solidFill>
                <a:latin typeface="Berlin Sans FB"/>
              </a:rPr>
              <a:t>CARATTERI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Sinte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Memorizzabile e Semp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Vicino alla realtà dei raga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Condiviso ma soprattutto vissuto (non è una meta: si tratta di fare insieme esperienza di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Berlin Sans FB"/>
              </a:rPr>
              <a:t>Obiettivi giornali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Definiscono il cammino proposto ai ragazzi nella singola giorn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37162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Berlin Sans FB"/>
              </a:rPr>
              <a:t>Come si fanno???</a:t>
            </a:r>
            <a:r>
              <a:rPr b="1" lang="en-US" sz="2400" spc="-1" strike="noStrike">
                <a:solidFill>
                  <a:srgbClr val="ff6600"/>
                </a:solidFill>
                <a:latin typeface="Berlin Sans FB"/>
              </a:rPr>
              <a:t> – </a:t>
            </a:r>
            <a:r>
              <a:rPr b="1" lang="en-US" sz="2400" spc="-1" strike="noStrike">
                <a:solidFill>
                  <a:srgbClr val="ffff00"/>
                </a:solidFill>
                <a:latin typeface="Berlin Sans FB"/>
              </a:rPr>
              <a:t>tecniche</a:t>
            </a:r>
            <a:r>
              <a:rPr b="1" lang="en-US" sz="2400" spc="-1" strike="noStrike">
                <a:solidFill>
                  <a:srgbClr val="ff6600"/>
                </a:solidFill>
                <a:latin typeface="Berlin Sans FB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Berlin Sans FB"/>
              </a:rPr>
              <a:t>e</a:t>
            </a:r>
            <a:r>
              <a:rPr b="1" lang="en-US" sz="2400" spc="-1" strike="noStrike">
                <a:solidFill>
                  <a:srgbClr val="ff6600"/>
                </a:solidFill>
                <a:latin typeface="Berlin Sans FB"/>
              </a:rPr>
              <a:t> caratter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29264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149720"/>
            <a:ext cx="8675640" cy="17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ff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Berlin Sans FB"/>
              </a:rPr>
              <a:t>Scaturiscono per associazione di idee o in seguito ad un ragionamento ad Albero (radici, rami, frutti) DALL’OBIETTIVO GENERA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ff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Berlin Sans FB"/>
              </a:rPr>
              <a:t>Hanno alla base una domanda DI VITA che il ragazzo dovrebbe pors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ff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00"/>
                </a:solidFill>
                <a:latin typeface="Berlin Sans FB"/>
              </a:rPr>
              <a:t>Devono essere sintetizzabili in un atteggiamento o in una parola, slogan.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ffffff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erlin Sans FB"/>
              </a:rPr>
              <a:t>Non una serie di lezioni ma </a:t>
            </a:r>
            <a:r>
              <a:rPr b="0" lang="en-US" sz="1700" spc="-1" strike="noStrike">
                <a:solidFill>
                  <a:srgbClr val="ff0000"/>
                </a:solidFill>
                <a:latin typeface="Berlin Sans FB"/>
              </a:rPr>
              <a:t>ESPERIENZA D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erlin Sans FB"/>
              </a:rPr>
              <a:t>Aggancio con la 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Berlin Sans FB"/>
              </a:rPr>
              <a:t>Caratteristic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e0e3"/>
                </a:solidFill>
                <a:latin typeface="Berlin Sans FB"/>
              </a:rPr>
              <a:t>Deve corrispondere con l’obiettivo generale e con gli obiettivi giornalie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e0e3"/>
                </a:solidFill>
                <a:latin typeface="Berlin Sans FB"/>
              </a:rPr>
              <a:t>Deve essere “moderno” e originale. In una parola curi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e0e3"/>
                </a:solidFill>
                <a:latin typeface="Berlin Sans FB"/>
              </a:rPr>
              <a:t>Deve aggiungere colore ai giorni del campo. Può farlo solo se avvincente e ricco di spunti e contenuti (anche trasversali). Deve proiettare i ragazzi (specie i piccoli) in un mondo. Cosa succederà domani? Questa è la domanda che i ragazzi devono porsi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bbe0e3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be0e3"/>
                </a:solidFill>
                <a:latin typeface="Berlin Sans FB"/>
              </a:rPr>
              <a:t>MAI DIMENTICARE CHE LE STORIE VEICOLANO CONTENUTI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Berlin Sans FB"/>
              </a:rPr>
              <a:t>I Tracci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ff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0000"/>
                </a:solidFill>
                <a:latin typeface="Berlin Sans FB"/>
              </a:rPr>
              <a:t>Sviscerano</a:t>
            </a: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 l’obiettivo giornalier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Sono gli </a:t>
            </a:r>
            <a:r>
              <a:rPr b="0" lang="it-IT" sz="2500" spc="-1" strike="noStrike">
                <a:solidFill>
                  <a:srgbClr val="ffff00"/>
                </a:solidFill>
                <a:latin typeface="Berlin Sans FB"/>
              </a:rPr>
              <a:t>scopi</a:t>
            </a: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 delle </a:t>
            </a:r>
            <a:r>
              <a:rPr b="0" lang="it-IT" sz="2500" spc="-1" strike="noStrike">
                <a:solidFill>
                  <a:srgbClr val="ffff00"/>
                </a:solidFill>
                <a:latin typeface="Berlin Sans FB"/>
              </a:rPr>
              <a:t>attività</a:t>
            </a: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 (analisi – confronto; documenti della Fed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Vanno </a:t>
            </a:r>
            <a:r>
              <a:rPr b="0" lang="it-IT" sz="2500" spc="-1" strike="noStrike">
                <a:solidFill>
                  <a:srgbClr val="3366ff"/>
                </a:solidFill>
                <a:latin typeface="Berlin Sans FB"/>
              </a:rPr>
              <a:t>preparati “a giornata”</a:t>
            </a: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 ovvero non uno per volta prima dell’attività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24"/>
              </a:spcBef>
              <a:buClr>
                <a:srgbClr val="00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ff00"/>
                </a:solidFill>
                <a:latin typeface="Berlin Sans FB"/>
              </a:rPr>
              <a:t>Non danno conclusioni o ricette…alle quali forzatamente l’educatore convoglia il gruppo. Attenzione alla tentazione dei/lle maestrine/i con il loro programma da svolgere (“perché siamo indietro”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Berlin Sans FB"/>
              </a:rPr>
              <a:t>Le attiv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Le tecniche fanno partire le discussioni ma solo le ESPERIENZE veicolano contenuti di convers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OGNI ragazzo deve essere chiamato a partecipare in prima persona, ad  esprimersi spontaneamente, a comunicare attraverso codici verbali e non verbali, ad intrecciare rapporti, a confrontarsi e prendere deci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La tecnica deve rispondere a tempi  e contenuti ben precisi e questo provoca un investimento mirato dell’energia fisica ed intellettuale del raga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tener conto dei bisogni e delle energie naturali dei ragazz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3860640"/>
            <a:ext cx="370836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Altri requisi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Origi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Insol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E’ DI PIU’ DEL SOLITO INCONTRO DEL  SAB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Il senso del be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Berlin Sans FB"/>
              </a:rPr>
              <a:t>Si spiega da sola ma va bene anche se non si spiega: basta con l’educatore che tira le conclus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lin Sans FB"/>
              </a:rPr>
              <a:t>Liturgia e Gioch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41008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Berlin Sans FB"/>
              </a:rPr>
              <a:t>Assieme per scelta e non per caso. Attenzione anche ai linguaggi della liturgia: non  possibile che tutto è bello e quando si prega è una palla. Le stesse attenzioni riservate alle attività e ai giochi del campo devono essere garantite per la litu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276640"/>
            <a:ext cx="496872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bbe0e3"/>
                </a:solidFill>
                <a:latin typeface="Berlin Sans FB"/>
              </a:rPr>
              <a:t>Liturgia Att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l </a:t>
            </a:r>
            <a:r>
              <a:rPr b="0" lang="it-IT" sz="1800" spc="-1" strike="noStrike">
                <a:solidFill>
                  <a:srgbClr val="ff0000"/>
                </a:solidFill>
                <a:latin typeface="Berlin Sans FB"/>
              </a:rPr>
              <a:t>Linguaggio</a:t>
            </a: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 del Rag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l </a:t>
            </a:r>
            <a:r>
              <a:rPr b="0" lang="it-IT" sz="1800" spc="-1" strike="noStrike">
                <a:solidFill>
                  <a:srgbClr val="ffff00"/>
                </a:solidFill>
                <a:latin typeface="Berlin Sans FB"/>
              </a:rPr>
              <a:t>protagonism</a:t>
            </a: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o del Rag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lla </a:t>
            </a: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Bell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lla </a:t>
            </a:r>
            <a:r>
              <a:rPr b="0" lang="it-IT" sz="1800" spc="-1" strike="noStrike">
                <a:solidFill>
                  <a:srgbClr val="ffff00"/>
                </a:solidFill>
                <a:latin typeface="Berlin Sans FB"/>
              </a:rPr>
              <a:t>preghiera della Chiesa</a:t>
            </a: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: modellata sulla Liturgia delle 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lle </a:t>
            </a:r>
            <a:r>
              <a:rPr b="0" lang="it-IT" sz="1800" spc="-1" strike="noStrike">
                <a:solidFill>
                  <a:srgbClr val="3366ff"/>
                </a:solidFill>
                <a:latin typeface="Berlin Sans FB"/>
              </a:rPr>
              <a:t>energie del Raga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Attenta ai </a:t>
            </a:r>
            <a:r>
              <a:rPr b="0" lang="it-IT" sz="1800" spc="-1" strike="noStrike">
                <a:solidFill>
                  <a:srgbClr val="ffff00"/>
                </a:solidFill>
                <a:latin typeface="Berlin Sans FB"/>
              </a:rPr>
              <a:t>desideri di conoscenza</a:t>
            </a:r>
            <a:r>
              <a:rPr b="0" lang="it-IT" sz="1800" spc="-1" strike="noStrike">
                <a:solidFill>
                  <a:srgbClr val="00ff00"/>
                </a:solidFill>
                <a:latin typeface="Berlin Sans FB"/>
              </a:rPr>
              <a:t> del Ragazzo: basta col raccontare Gesù come una favolet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8920" y="429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erlin Sans FB"/>
              </a:rPr>
              <a:t>Il Gioco è un dir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Berlin Sans FB"/>
              </a:rPr>
              <a:t>Favorire Giochi per tutti, con tutti, di tutt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Berlin Sans FB"/>
              </a:rPr>
              <a:t>Fine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"/>
              </a:rPr>
              <a:t>e……Buon Campo a tutt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3:43:34Z</dcterms:created>
  <dc:creator>Compaq</dc:creator>
  <dc:description/>
  <dc:language>en-US</dc:language>
  <cp:lastModifiedBy>Compaq</cp:lastModifiedBy>
  <dcterms:modified xsi:type="dcterms:W3CDTF">2006-05-18T17:15:53Z</dcterms:modified>
  <cp:revision>26</cp:revision>
  <dc:subject/>
  <dc:title>Diapositiva 1</dc:title>
</cp:coreProperties>
</file>